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2E2-4B1F-4147-A8D0-90F97B85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88F-6AB1-400B-9527-3812963F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279E1-34CF-41B9-BF2E-953410E6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E19C8-DF6D-4B4F-A6E2-47C4D42E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BD91D-EF60-4480-99D1-259C0302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BA042-DC39-4EF8-BF60-57416E3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D992B-3E16-4679-9910-1FF8D9B8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AA613-FC6E-42BE-9B4E-35357AA8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F57A0-1853-4D4D-82F8-57548992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34FB2-5393-4F75-8BBE-1E8DF2DD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FB31A-B8C1-40E2-AD99-B00D166D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E1E9F-1730-477A-B436-57DB013D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2B5-48EC-48C6-A32C-D8A9B196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B3723-AEED-44E1-92AB-BFABABAB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9E5C7-1E45-4049-BB7F-835D6E28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1A799-C713-4E11-A993-3C4ADB1C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7EA8B-3380-41FF-B7C4-24C3B6F7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1D6A6-CF23-4422-B33C-806522B7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67ABE-9F74-47A0-BF12-44B565DA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E351A-B620-48E6-9756-46854BDC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4A989-999A-4812-AB18-431D843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A5B49-3860-42C5-A4B6-EF7F07B0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CA766-C5EA-422B-BDAD-6654ED31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1D6-F530-46D4-A4BD-29DAD81D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4937C-8C8E-4B98-9BF2-137DA666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0D7A8-27B1-44B3-847A-B2C1C13E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3B468-3C27-449F-AAD5-8E09A8A9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7AC5E-CD36-4269-AAF1-EE869EBE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F0BD6-514B-4CB7-AE04-463A4A55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EEAC16-38E8-4D01-B8B8-09C9BF81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84E7F-EB7B-41AC-AEC8-875643F7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808C5-F711-4ACA-B25A-C30EFFF1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2A504-66BB-4A33-A7E3-830E84E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D8CE3-63FD-4D37-9778-170B2D3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2849-E1B2-4095-846C-86C12303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A70D5-BFD6-4BB0-A0EE-039DB948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C02AD-C979-4D21-BB89-36111DB8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82699-113F-4D95-8358-3F5779A4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86111-2B14-4405-8E39-04A6BE6F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30942-EAF2-4B1C-80AA-B96BF9F8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529F3-01D5-4660-AF8A-81494672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B33E4E-6001-4D0F-8D22-2FE3A254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D82F5-4EFA-4D8B-B052-F5D4BEEB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17D1F-E9BA-4882-A049-6EF4142C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F6A98-3373-439F-84E8-2703CA65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88E6-5F6B-4C4C-BA39-2F585039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911C2-36C2-4511-8265-79E1169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E7BB1-5235-465A-BE25-E1F0A31A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3480F-C811-4EEE-9B35-2A47B3E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6BE8D-53A3-416A-98AE-A7168485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C7B97-D559-4115-BD03-5EF96FB9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45018-AE49-43ED-BE66-1063CBB9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F8557D-5830-451B-B0F6-11F95E74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FCE39-1241-4C20-A3AB-600E57CA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2B9A2-68D6-44AA-879A-88AE6C11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5887AD-B462-4AAA-B1BB-B4DC8D90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07BD-F23D-4AE0-86A8-2208E6F4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EFA39-7D15-4C6C-A93A-04E49DB6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29806-8A47-4D12-BCF4-610FD4E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1B7AA-1A81-4FF2-87EC-D55EA2FD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0D073-7113-4934-A48A-6224CA2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8C1A4-5D1C-4512-8D10-C2717C0D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8D68C-559B-4D12-B2A0-EE65847E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357CC-6F66-4C01-B604-9E6E2B98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FEF3F-FDA5-46B9-84BD-C2C575F7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7D35A-C0FF-4EA2-AFCF-BBA7558B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6E9B2-7F1A-4E41-AE45-970552E0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F676-7D95-48B0-8790-62B0786D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907B13-C298-4961-BD1B-3010A66E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1051A-F0E6-45E0-9893-2DFF0977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A2040-F499-4FD3-AABA-E1611020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883998-F227-447A-AD98-B0D6D6E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005D8-FB93-4FC8-B0A4-11EF06A3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31E60-0B55-4789-B6EF-350C61FB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DF70D-C45C-4EDF-A9A3-769D17C0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30D09-E069-4EAA-ADA6-18245A24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B0A25-5635-4861-9C15-7A244551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160024-7B86-4CE4-9BE3-19EB69FF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6DB7-1D06-438F-ABCC-10CDEE8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09814-8335-4207-B4E6-5168BDCC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B51810-E3B9-430A-9F67-FCFD3AE6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56942-0395-474F-AE4B-0FEF1CB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9E5FFA-119F-4137-85B7-45656CF6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186012-AAFA-413A-963E-BA176A68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CA306-E976-44FF-9C66-CF68081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7A7B98-467B-406C-8839-B24D644C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AD333A-7338-43EC-8A12-232C3047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EA7AA-95D0-4003-A950-981E859C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CFE46-F94A-49EF-ADB9-63D2A5E7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0752-9CF4-4E3C-A1B2-5475F88C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991F9-4C54-4766-B6AA-FADBC3B9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2AFC2-0AAA-4048-8AC5-793B71FC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5F1C4-5900-44D6-80CB-37B9FC4D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BD63A-AFC5-4516-A81D-01FE7149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FE22E-7E7F-4998-84F0-3E91BBEA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C3891-7869-49BF-8405-6845EEAF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3A254B-3776-4FEE-8E29-A92A521B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B8BAF7-212D-4B06-B9D1-8ADA917E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3E870D-9016-4D80-9BB1-1228DBB8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36F94-4BC0-4BF8-B7B2-4DC5CE2E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30DE-55E8-4B3F-8A97-C42DA107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4C63E0-8CA0-4900-9E97-B373CB33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151A62-946F-4F18-AFA9-D0302215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7728C4-0F0B-4DDB-89D3-1F3B2CDF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C17B3-88B4-4C1F-A71B-A88289FD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E8577-3141-4BDF-9641-063F86BE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D617C7-C52A-4498-B08F-4FB5C820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7A8857-E4C9-4756-B717-731A04E8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D30255-70B5-4A67-82AB-A5E0520F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8769A1-F004-47D7-BCDE-D62B1687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17AAC-6C40-422D-A9CE-C44754BA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565-4F0B-473C-944E-9693E75A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12DB-946A-4944-8755-36EBB14F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3BE38-40D0-4259-B04C-3D30B062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74F62-B613-40C9-A227-EE64B021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9A80E3-F797-4CD0-A0DD-2A8C1C6D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F2426C-D0E0-4C25-B4CD-3D8274CC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E1F58-7641-4A40-80B0-C576C95F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2E309E-CAD7-414B-85F1-FD98A63F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A2375A-E906-4E5D-AB0E-074219ED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23230-9EA0-4301-818E-601A25E4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450AE3-7943-4673-AD31-1F5E8644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CDF132-BF00-4CF3-BF52-7851975B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0D44-FD93-46BE-8701-3CA79B5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E99F5-F79C-48B4-AA8D-01CB82D3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808A6-685B-4C18-87CD-D007DAED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B33F4-6BBC-4C01-9B7D-B81D4097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43BB0-DA00-4B73-AE48-AA46F337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7669C-AE92-401B-A532-7278B6DE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9FDE60-ED80-49F5-B69A-63220BBC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3063A-04BA-4553-9B96-1EF956EB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BB6F24-6C64-4892-A458-68354FFA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751F1E-C30B-438E-BDED-82B1FC6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1E702-6604-4382-A203-4676489D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EAFB-2381-4EAA-BDCA-31980E95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CAB9F4-9BB2-4BBA-BBF4-5B683A66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2CA03-3DDB-44CB-9750-042A6C8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2AC2BE-4181-4CB8-B1BF-D391294E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2F570-AB09-4D63-A6DA-8A41C5E7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2E3058-D73C-41DE-8432-68EE4F6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2E99B8-1CC8-4522-AB4C-9535CE04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0D029A-3EEA-46CF-B6F9-15F15C31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406FAE-8914-4A11-84FC-BC1B299E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502CFE-5FCF-4C92-8ADE-47BC8F66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0BFDD-211D-4D65-B6EC-9717A9EA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879D-38E6-449A-9E27-37706B62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BAC0F-3B5D-4AF8-A483-531138A1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EF7D0-1E77-4D95-A3C4-620490D1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D4E336-336D-43FC-B088-3DE602B4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8E999-A010-4A55-94E6-C356F392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45266C-DBB7-4936-8087-FDFE2B4B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6CE605-E6AF-4953-961A-55FEC33F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E760B-7D9E-43E4-8EE0-C31C4108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FDD283-1F1B-4758-B611-1B8E3A72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E5F087-9397-4C0E-8357-4BF5FBA1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A1CCC-8ACB-4787-8CE5-EE17C89E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B624-F694-4C32-9DF5-2529FF21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F5B19-D941-4F2A-839F-2CC7C582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E63EA-6521-4CF7-B97E-ABED625B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0E0D3-4ADF-40D0-9111-D67EC7DD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CC8996-1DAE-46F4-8109-5814C926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36E0F6-5A23-4D42-B60F-D070639A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691A6E-D3A0-4929-83E0-1AAD58AE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A1AE1A-1660-47D6-958F-15E7D9E2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0EFE11-215D-4E70-9808-F5597F7F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512A7-48E5-4540-95A8-0FDBDCB6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B1BDA-A01B-4B73-8F66-D51B278F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35567-787B-4A16-A70E-83832D9C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4F4AC6-4B69-4B23-B14D-2F91C8EC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8A04A-FB30-4D6B-ACC0-30FE3BFF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899FF6-3FCA-4C5D-9C78-832839B3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30B06-6676-4DDD-A1B8-0579DB95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8FDF9-2089-4818-AA16-17C6A0D3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D5504-4A6C-42C7-922C-19BA214D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3A75-9CC3-4B82-B1AE-D221E346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1AF-AC9A-4842-B69E-0086DC49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F09F7-0CFE-4633-B9EB-B2B0E357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703F-E97C-4BF1-AA13-8BB7419F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E2EF-DF8A-400A-A7DD-37612FA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A79B-C66C-4971-B290-AC6ED4FA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A301-DA03-4248-ABCA-4F9AFD45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231D-C7FE-41B1-B954-D39AE79F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3921-D46D-4521-AEFF-5D3E74A2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F9EA7-6F59-4524-8B79-29055D1A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68D9-7EF4-4998-99C4-B2E051A6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780C-53F8-4FAC-8E3E-97FFDFCC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6CE-252E-41A4-A08E-9037586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F0C2-3CC4-4913-BC83-B1CFAEC0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B7EBA-191D-44AF-9185-AE4EE346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3B39E-04A5-4CA7-BB59-BB53A9E8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81E9-D0A1-4E92-A25A-A561682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E7F2-B0E7-4CB5-A3AD-A5A1F4AD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8378B-473A-462A-BD77-E66A98B3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3597E-514F-413D-B78D-06E5B23D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91F4D-0887-49BA-AA4B-603D94B5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A3227-E151-4076-878F-E3125F62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3EEEC-0982-45E3-B6F4-3068B5C7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288-809B-4388-9E79-C26B26AB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15DAF-501E-4003-9685-D1E3C0F4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34659-10F7-428F-A352-E7DF3D95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B8D5C-3321-4A48-ACC7-2D6DEED8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B557B-A1DE-47EB-B74E-9F593AAB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486B3-ADA0-44D8-B486-634B3403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C6EE4-A07F-4561-995D-7564F763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1225-C3D4-4A07-AE49-F6018FEF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73DA3-2CC3-4AA0-942C-6D27B534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80C19-7BA8-4095-9516-2564698E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F288C-4197-462E-865C-05753796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C1E-316A-4357-B188-0A60A0BD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FAB4E-F49E-48C0-90AB-DB1C0CE7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FE90B-961E-4D21-91DE-829E4FDA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1270C-D4DA-49D4-81CB-32971F24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1B93B-DF9B-4FFF-A628-6653ADCB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89A46-CDD6-4159-97C7-352FB383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86D67-13AE-490F-A2FF-4459FBDA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B44DF-FCC6-437F-A772-5558A90E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B45E1-9BC7-4E17-9D6C-BD86606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728F9-D9CD-4365-8EC8-8B114992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A5DB7-D60D-4BF7-8D9B-93319C13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D25D-6C8F-4E40-A92B-2F4E098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1C49A-3A5B-4732-93BB-856C72B4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775E-4E4C-4450-9592-3E58E7B0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DB7C-7016-4502-962E-0A7C8787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BE7C6-1BBA-4B09-B700-A48ED6B6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4CEF2-11A1-4354-978C-E6D2F3FB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8ADC-6B0D-4071-A94B-3B070829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1F1DF-872F-4FEA-BE0B-58E37A7B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EB631-6AD6-4361-8B74-3872620A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B47EC-32E7-49E8-A0C7-9A16DA3C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B0C9A-8579-4194-9434-C26BD55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AA7-9A92-4EB5-8AE6-81A23407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84CD-7E7C-43E5-9170-24944B7F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1C4AD-98C0-455E-A55E-8FE7EB09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F5A8D-B286-4C37-969C-B7D3C11B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6FFC2-D7DF-498B-8E35-D91DEAB2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2E570-E7A0-4718-8D42-18CE742C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893C0-9A81-4C4E-9E8F-4F0BEB6D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9B50A-98B1-4D20-8AAB-8C98FC0B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FA35-6209-491D-B3C1-29805A5C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9B260-CCCA-419A-94E1-76987FF0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16B58-5250-45FA-B02B-8F7A61C3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BAC-F231-4C34-8744-7B696EDA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BCE21-16F5-447C-A18B-0808F97F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D955B-AFB4-4755-A713-7F66066B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B7E28-F062-4E82-9C4F-B0FDE70C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8C86E-971C-4242-8D47-165702E1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C133C-81FE-4B29-89DF-B6F3DD4A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02050-E453-4FA2-91A8-319D4A80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BD6EA-E5BC-43D5-9E6D-8DE015E0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4771F-6CC1-48AA-BB14-7C5EA4CA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83FF6-BCA2-42FE-AD24-537BD1E8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5E221-3D37-40D3-8250-1564362C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CE1D-7C50-42BF-B1D2-AB11522306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B53E-1501-411E-8B00-D8DB570B1C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6F88-CE36-4141-9AAB-B9584F0468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3AC7-ED6D-471A-AD48-EFC0DE50C2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6AAE-31AA-4603-B48C-0E10B093B5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5D23-0EFB-4820-8AA8-EBAD85E721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F398-4190-4ED5-9513-E24EC86BD5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85B2-416A-4F08-B19A-3F60816F97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9D03-B577-4219-82FD-0B967C01D2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59A9-61D1-4BA0-97A6-4DEC746A4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4EF2-DC6A-40BE-A226-1B0B12E4CA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223A-7050-4EA3-A45C-2067216358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0FF9-DC89-49D0-B189-18C2BE54BC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2EE1-161D-4BD2-9B17-8FF131B201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A371-99A9-42F5-984F-4E010CF483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36B9-12A7-470C-80B9-F6B01FCB49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D399-B17B-47CF-A7F1-7A0B03FF14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24C7-EA6C-45BD-8429-D3BCA98E72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4749-A32E-497A-B00A-58C7BAB66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1960-7AFD-4F75-8F3B-9DA292C05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2CF4-63B3-45BF-B2FB-88B1614C4A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865-3BE3-40CD-89C7-01C1F38793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DCBC-C784-48DE-BC27-AEC8D13AFC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5EE3-47C7-46EE-B301-2A9F0FE5D7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0405-5A56-4AAF-8FCE-95682334BC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5AE0-1903-444F-9990-CD9D59473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067D-A9C3-42BB-B62D-BCAB641F75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224-BF41-4D46-BF52-71691C5438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7222-2D4F-4D91-A959-1C2BA4C32A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EA46-7A12-44AA-A25A-CD413BB585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5979-6470-42F7-87DC-C8023B630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4CF0-3926-4A79-9EC0-2D3293E82D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1EB2-077C-4EDB-B065-303842BE5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4212-5B11-408E-A09C-0F7BC83134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090E-F3C9-48ED-855D-671036616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1378-D44E-47A5-B71C-8380FF455E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AB4F-5E35-416F-929C-1330E2F8DB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4D35-D827-4EF4-A616-4445AE835D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2E17-89D2-46C9-BB1A-82308FEAD8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C9FB-509E-4344-9BFA-E601A54D28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409760" y="2243160"/>
            <a:ext cx="6324480" cy="60948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771480" y="3790800"/>
            <a:ext cx="76010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69633" descr=""/>
          <p:cNvPicPr/>
          <p:nvPr/>
        </p:nvPicPr>
        <p:blipFill>
          <a:blip r:embed="rId1"/>
          <a:stretch/>
        </p:blipFill>
        <p:spPr>
          <a:xfrm>
            <a:off x="309600" y="749160"/>
            <a:ext cx="8524800" cy="5848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900000" y="2449440"/>
            <a:ext cx="3672000" cy="433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971640" y="3184560"/>
            <a:ext cx="4824360" cy="13240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755640" y="4653000"/>
            <a:ext cx="3672000" cy="4334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5"/>
          <a:stretch/>
        </p:blipFill>
        <p:spPr>
          <a:xfrm>
            <a:off x="539640" y="5300640"/>
            <a:ext cx="828036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68609" descr=""/>
          <p:cNvPicPr/>
          <p:nvPr/>
        </p:nvPicPr>
        <p:blipFill>
          <a:blip r:embed="rId1"/>
          <a:stretch/>
        </p:blipFill>
        <p:spPr>
          <a:xfrm>
            <a:off x="976320" y="895320"/>
            <a:ext cx="7191360" cy="5067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2268360" y="321300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3"/>
          <a:stretch/>
        </p:blipFill>
        <p:spPr>
          <a:xfrm>
            <a:off x="3203640" y="4005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4"/>
          <a:stretch/>
        </p:blipFill>
        <p:spPr>
          <a:xfrm>
            <a:off x="2340000" y="472428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5"/>
          <a:stretch/>
        </p:blipFill>
        <p:spPr>
          <a:xfrm>
            <a:off x="3276720" y="5445000"/>
            <a:ext cx="936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组合 60430"/>
          <p:cNvGrpSpPr/>
          <p:nvPr/>
        </p:nvGrpSpPr>
        <p:grpSpPr>
          <a:xfrm>
            <a:off x="285840" y="765000"/>
            <a:ext cx="8678880" cy="4873680"/>
            <a:chOff x="285840" y="765000"/>
            <a:chExt cx="8678880" cy="4873680"/>
          </a:xfrm>
        </p:grpSpPr>
        <p:pic>
          <p:nvPicPr>
            <p:cNvPr id="924" name="图片 60428" descr=""/>
            <p:cNvPicPr/>
            <p:nvPr/>
          </p:nvPicPr>
          <p:blipFill>
            <a:blip r:embed="rId1"/>
            <a:stretch/>
          </p:blipFill>
          <p:spPr>
            <a:xfrm>
              <a:off x="285840" y="1219320"/>
              <a:ext cx="857232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5" name="图片 60429" descr=""/>
            <p:cNvPicPr/>
            <p:nvPr/>
          </p:nvPicPr>
          <p:blipFill>
            <a:blip r:embed="rId2"/>
            <a:stretch/>
          </p:blipFill>
          <p:spPr>
            <a:xfrm>
              <a:off x="6948360" y="765000"/>
              <a:ext cx="2016360" cy="172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5867280" y="364500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5364000" y="436572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5940360" y="5056200"/>
            <a:ext cx="936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733320" y="1671480"/>
            <a:ext cx="7677360" cy="3515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1584360" cy="433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3995640" y="3170160"/>
            <a:ext cx="1081080" cy="4334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6877080" y="3213000"/>
            <a:ext cx="719280" cy="4334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5435640" y="4595760"/>
            <a:ext cx="7189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704880" y="1990800"/>
            <a:ext cx="7734240" cy="28764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1835280" y="292428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6531120" y="290988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1835280" y="364500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6531120" y="3630600"/>
            <a:ext cx="433080" cy="4334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2627280" y="4365720"/>
            <a:ext cx="433440" cy="4334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6531120" y="4351320"/>
            <a:ext cx="433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433440" y="1219320"/>
            <a:ext cx="8277120" cy="44193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2050920" y="378936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6445080" y="286704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6084720" y="3803760"/>
            <a:ext cx="1297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768240" y="1676520"/>
            <a:ext cx="7620120" cy="35049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2340000" y="234936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1763640" y="3414600"/>
            <a:ext cx="1656000" cy="9511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488280" y="2349360"/>
            <a:ext cx="936360" cy="433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5508720" y="3414600"/>
            <a:ext cx="191592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504720" y="1581120"/>
            <a:ext cx="8134560" cy="36957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547640" y="3213000"/>
            <a:ext cx="2160720" cy="2087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2527200" y="2492280"/>
            <a:ext cx="2044800" cy="4334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5508720" y="3198960"/>
            <a:ext cx="2160360" cy="2087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6488280" y="2478240"/>
            <a:ext cx="204444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795240" y="858960"/>
            <a:ext cx="7553520" cy="285732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54277" descr=""/>
          <p:cNvPicPr/>
          <p:nvPr/>
        </p:nvPicPr>
        <p:blipFill>
          <a:blip r:embed="rId2"/>
          <a:stretch/>
        </p:blipFill>
        <p:spPr>
          <a:xfrm>
            <a:off x="852480" y="3830760"/>
            <a:ext cx="7439040" cy="2838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258920" y="1628640"/>
            <a:ext cx="2521080" cy="20876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2440080" y="879480"/>
            <a:ext cx="1987560" cy="4334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5219640" y="1585800"/>
            <a:ext cx="2665440" cy="2087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6400800" y="836640"/>
            <a:ext cx="2101680" cy="433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1260360" y="4595760"/>
            <a:ext cx="2665440" cy="20876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2441520" y="3846600"/>
            <a:ext cx="2102040" cy="4334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9"/>
          <a:stretch/>
        </p:blipFill>
        <p:spPr>
          <a:xfrm>
            <a:off x="5221440" y="4565520"/>
            <a:ext cx="2665440" cy="2087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10"/>
          <a:stretch/>
        </p:blipFill>
        <p:spPr>
          <a:xfrm>
            <a:off x="6402240" y="3816360"/>
            <a:ext cx="21020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2231" descr=""/>
          <p:cNvPicPr/>
          <p:nvPr/>
        </p:nvPicPr>
        <p:blipFill>
          <a:blip r:embed="rId1"/>
          <a:stretch/>
        </p:blipFill>
        <p:spPr>
          <a:xfrm>
            <a:off x="314280" y="1785960"/>
            <a:ext cx="8515440" cy="32860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900000" y="3530520"/>
            <a:ext cx="5977080" cy="4334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5977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48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